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B43A-D4B3-4C90-817E-433E39C7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B9BD-50A1-4172-9C9C-8203703D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6F2C-729A-417A-B61A-FB7EC6CCE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C656-DD2A-4207-AE48-7DAA0AEA4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9755-A10A-4D24-A1CB-6261A289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620A-2DF2-4549-924B-05CD0242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88E2-1D12-4B2E-8632-E3BF1438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A92E-1C6B-4124-9B1F-F79EDFB0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C49D-072D-4736-91F1-DED3CE56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AC23-CBD3-40DF-B6E6-92DEC3A6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3D15-FB9C-45CB-8884-5AA8DD69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1140-0CC5-4C45-B330-16D5311F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DC08-D268-48E3-B2E0-DA991D80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755F-1AB6-43E2-85E1-01E1726B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A084-BFE8-457A-BDA7-77D1C875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56B8-4FC3-4B60-A5CE-C61518F4D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C156-AC23-4857-8F91-2307ABB1A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1BA5-1A29-45A0-8D8E-722DEAF5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5469-1F48-42DA-9254-431AE6EC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786D-FA3D-49FC-907E-F07F0DE2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C582-FDFE-4436-9769-BD690ECF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8435-AAEF-4684-A42E-F469E48D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EFB9-722C-4623-88D2-D7EE5FC8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2624-8AFB-4A2D-9275-6CEF0B98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9F60-DD39-4670-8E08-E903CE50E4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A814-A2BE-45E3-A11D-C8DD675EAC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riday, September 5th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sum of Lisa and Ginger’s ages is 15.  The product of the ages is 56.  If Lisa is the older girl, how much older than Ginger is sh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ouble Sided Equa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Arial"/>
              </a:rPr>
              <a:t>6d + 8 = 4d + 16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Arial"/>
              </a:rPr>
              <a:t>9e – 15 = 12e + 3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mbina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6(2g + 4) + 10g = 24g + 2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768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768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8" dur="76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0" dur="76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b7e7ff"/>
                </a:solidFill>
                <a:latin typeface="Arial"/>
              </a:rPr>
              <a:t>Homework:</a:t>
            </a:r>
            <a:br>
              <a:rPr sz="6500"/>
            </a:br>
            <a:r>
              <a:rPr b="0" lang="en-US" sz="6500" spc="-1" strike="noStrike">
                <a:solidFill>
                  <a:srgbClr val="b7e7ff"/>
                </a:solidFill>
                <a:latin typeface="Arial"/>
              </a:rPr>
              <a:t>worksheet</a:t>
            </a:r>
            <a:br>
              <a:rPr sz="6500"/>
            </a:br>
            <a:r>
              <a:rPr b="0" lang="en-US" sz="6500" spc="-1" strike="noStrike">
                <a:solidFill>
                  <a:srgbClr val="b7e7ff"/>
                </a:solidFill>
                <a:latin typeface="Arial"/>
              </a:rPr>
              <a:t>(P.4 part one)</a:t>
            </a:r>
            <a:endParaRPr b="0" lang="en-US" sz="65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e begin this course by doing </a:t>
            </a:r>
            <a:r>
              <a:rPr b="0" lang="en-US" sz="4400" spc="-1" strike="noStrike" u="sng">
                <a:solidFill>
                  <a:srgbClr val="b7e7ff"/>
                </a:solidFill>
                <a:uFillTx/>
                <a:latin typeface="Arial"/>
              </a:rPr>
              <a:t>one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lesson from Chapter 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5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ill not need your textbook this week as I will provide you with worksheets inst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7e7ff"/>
                </a:solidFill>
                <a:latin typeface="Arial"/>
              </a:rPr>
              <a:t>Anything in Chapter P is </a:t>
            </a:r>
            <a:r>
              <a:rPr b="0" i="1" lang="en-US" sz="5000" spc="-1" strike="noStrike">
                <a:solidFill>
                  <a:srgbClr val="b7e7ff"/>
                </a:solidFill>
                <a:latin typeface="Arial"/>
              </a:rPr>
              <a:t>supposed</a:t>
            </a:r>
            <a:r>
              <a:rPr b="0" lang="en-US" sz="5000" spc="-1" strike="noStrike">
                <a:solidFill>
                  <a:srgbClr val="b7e7ff"/>
                </a:solidFill>
                <a:latin typeface="Arial"/>
              </a:rPr>
              <a:t> to be completely review!</a:t>
            </a:r>
            <a:endParaRPr b="0" lang="en-US" sz="5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b7e7ff"/>
                </a:solidFill>
                <a:latin typeface="Arial"/>
              </a:rPr>
              <a:t>Lesson P.4</a:t>
            </a:r>
            <a:br>
              <a:rPr sz="7500"/>
            </a:br>
            <a:r>
              <a:rPr b="0" lang="en-US" sz="7500" spc="-1" strike="noStrike">
                <a:solidFill>
                  <a:srgbClr val="b7e7ff"/>
                </a:solidFill>
                <a:latin typeface="Arial"/>
              </a:rPr>
              <a:t>part one</a:t>
            </a:r>
            <a:endParaRPr b="0" lang="en-US" sz="75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inear Equ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An equation with a degree of one (there is only one solution)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ne Step Equa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Arial"/>
              </a:rPr>
              <a:t>x + 8 = 15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Arial"/>
              </a:rPr>
              <a:t>3y = 12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wo Step Equa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Arial"/>
              </a:rPr>
              <a:t>2v – 6 = 18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5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5500" spc="-1" strike="noStrike">
                <a:solidFill>
                  <a:srgbClr val="ffffff"/>
                </a:solidFill>
                <a:latin typeface="Arial"/>
              </a:rPr>
              <a:t> + 8 = 14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istributive Equa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ffff"/>
                </a:solidFill>
                <a:latin typeface="Arial"/>
              </a:rPr>
              <a:t>3(2a + 5) = 57</a:t>
            </a: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ike Terms Equa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4b + 6b = 70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9c + 3 – 5c + 8 = 51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17:37:31Z</dcterms:created>
  <dc:creator>jnewman</dc:creator>
  <dc:description/>
  <dc:language>en-US</dc:language>
  <cp:lastModifiedBy>abeason</cp:lastModifiedBy>
  <dcterms:modified xsi:type="dcterms:W3CDTF">2008-09-04T19:23:27Z</dcterms:modified>
  <cp:revision>6</cp:revision>
  <dc:subject/>
  <dc:title>Monday, September 10th</dc:title>
</cp:coreProperties>
</file>